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12D-FFAC-4D24-B4A0-CFCBD5B0A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E27A-0438-450F-9CC8-F9A1A8C19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167C-C2AA-44E7-8B40-D247E9F14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7B5B-BCA8-40FE-84DD-33EE629F2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53E6-983C-4AC7-B854-967FC9850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4F2-FFD1-462A-AEB0-DF7F646ED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7CAC-CC1F-4FBC-AC78-6D263804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2F19-F006-4FEB-B6B0-2C67A9675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E806-4B81-4AE5-B62B-5A03268EE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1546-C44B-44CD-80A6-0FA6B6DFE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8D56-22CA-45F5-8C37-3EAB190F2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499A-A9C4-40EA-916C-970B91065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69D-ED20-43D0-83A7-9C64F9CD4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8BE1-2772-4EC4-ADE6-444DC34AB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9D7-FA2D-4E59-B0F7-2FE25B68E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19AA-C562-4131-9A25-7902D9CA5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F05-4F32-480D-8D01-DF75CCF6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B38-E873-4998-A945-D3326515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24C-B038-467B-8B47-1520ADB0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DEF-E9DD-42E0-A68D-BC0894B4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2C1-4A95-4F05-977B-B70A9C1B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E0C-465F-47BC-BAA4-67842ACD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601-16F2-48C0-8565-0B0511C0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63F-EB8B-4CE7-963C-491D49C1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754-EE90-4977-B0D0-4150E894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856-9C1D-4C72-A0BB-024D9D4A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75D-201C-49D6-BD4E-2BDA32BC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243-A4BA-406C-B77C-F3D64FD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8DB8-9655-4777-9E59-12353C783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galleryone.com/images/kouba/kouba%2520-%2520nine%2520big%2520blacks.jpg&amp;imgrefurl=http://www.galleryone.com/kouba_prints.htm&amp;h=403&amp;w=600&amp;sz=24&amp;tbnid=OT33VUEIDK8J:&amp;tbnh=89&amp;tbnw=133&amp;hl=en&amp;start=44&amp;prev=/images%3Fq%3Dnine%26start%3D40%26svnum%3D10%26hl%3Den%26lr%3D%26sa%3DN" TargetMode="External"/><Relationship Id="rId4" Type="http://schemas.openxmlformats.org/officeDocument/2006/relationships/image" Target="../media/image11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ctio.noao.edu/~marcel/personal/OZ1/dscf1970_key.jpg" TargetMode="External"/><Relationship Id="rId4" Type="http://schemas.openxmlformats.org/officeDocument/2006/relationships/image" Target="../media/image12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typingmaster.com/general/java/bubbleapplet.asp?keys=0123456789%2F*-%2B&amp;duration=1&amp;Submit=Play+Game" TargetMode="External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pinker.wjh.harvard.edu/photos/santa_barbara_california/images/two%2520hawks.jpg&amp;imgrefurl=http://pinker.wjh.harvard.edu/photos/santa_barbara_california/images/&amp;h=600&amp;w=926&amp;sz=27&amp;tbnid=YUt3rqrUDecJ:&amp;tbnh=94&amp;tbnw=146&amp;hl=en&amp;start=7&amp;prev=/images%3Fq%3Dtwo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artworksmontana.com/pages/Waddellpage/images/Chickadee%2520Three.jpg&amp;imgrefurl=http://www.artworksmontana.com/pages/Waddellpage/images/&amp;h=489&amp;w=500&amp;sz=43&amp;tbnid=rXyU6oaP274J:&amp;tbnh=124&amp;tbnw=127&amp;hl=en&amp;start=6&amp;prev=/images%3Fq%3Dthree%26svnum%3D10%26hl%3Den%26lr%3D" TargetMode="External"/><Relationship Id="rId4" Type="http://schemas.openxmlformats.org/officeDocument/2006/relationships/image" Target="../media/image5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bluebirdnut.com/Four%2520eggs%25205-30copy.jpg&amp;imgrefurl=http://www.bluebirdnut.com/2003%2520Season.htm&amp;h=437&amp;w=576&amp;sz=68&amp;tbnid=j12fG15w66cJ:&amp;tbnh=100&amp;tbnw=132&amp;hl=en&amp;start=25&amp;prev=/images%3Fq%3Dfour%26start%3D20%26svnum%3D10%26hl%3Den%26lr%3D%26sa%3DN" TargetMode="External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birdsofsanibel.free.fr/images/20040411/White%2520Pelican%2520Five.jpg&amp;imgrefurl=http://birdsofsanibel.free.fr/new_page_4.htm&amp;h=400&amp;w=600&amp;sz=171&amp;tbnid=e0RfCvFJCroJ:&amp;tbnh=88&amp;tbnw=133&amp;hl=en&amp;start=21&amp;prev=/images%3Fq%3Dfive%26start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lincsbirdclub.co.uk/image_4/barnacles_group_2.jpg&amp;imgrefurl=http://www.lincsbirdclub.co.uk/rare_birds/barnacle_geese.htm&amp;h=336&amp;w=567&amp;sz=39&amp;tbnid=IzQBgOg2Q0YJ:&amp;tbnh=77&amp;tbnw=131&amp;hl=en&amp;start=8&amp;prev=/images%3Fq%3Dsix%2Bbirds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pathla.com.au/img/birds-seven.jpg&amp;imgrefurl=http://www.pathla.com.au/&amp;h=264&amp;w=426&amp;sz=7&amp;tbnid=3L2oFvP7vjMJ:&amp;tbnh=75&amp;tbnw=122&amp;hl=en&amp;start=1&amp;prev=/images%3Fq%3Dseven%2Bbirds%26svnum%3D10%26hl%3Den%26lr%3D" TargetMode="External"/><Relationship Id="rId4" Type="http://schemas.openxmlformats.org/officeDocument/2006/relationships/image" Target="../media/image9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ee.surrey.ac.uk/Personal/D.Jefferies/bird/eight-eggs-close-box2-040430.jpg&amp;imgrefurl=http://www.ee.surrey.ac.uk/Personal/D.Jefferies/bird/activity2004.html&amp;h=914&amp;w=1133&amp;sz=166&amp;tbnid=SajA2tqknjEJ:&amp;tbnh=121&amp;tbnw=150&amp;hl=en&amp;start=14&amp;prev=/images%3Fq%3Deight%26svnum%3D10%26hl%3Den%26lr%3D" TargetMode="External"/><Relationship Id="rId4" Type="http://schemas.openxmlformats.org/officeDocument/2006/relationships/image" Target="../media/image10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un with Numbe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Kindergarten Mathematics  Web 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halk"/>
          <p:cNvPicPr/>
          <p:nvPr/>
        </p:nvPicPr>
        <p:blipFill>
          <a:blip r:embed="rId1"/>
          <a:stretch/>
        </p:blipFill>
        <p:spPr>
          <a:xfrm>
            <a:off x="3429000" y="4114800"/>
            <a:ext cx="19051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9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Picture 11" descr="kouba%2520-%2520nine%2520big%2520blac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646520"/>
            <a:ext cx="1724040" cy="1154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0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" name="Picture 11" descr="dscf1970_ke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4267080"/>
            <a:ext cx="2162160" cy="161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30492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’m Counting on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1055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2514600" y="144792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57600" y="1523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ing Your 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2895480" y="2590920"/>
            <a:ext cx="60984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2743200" y="4038480"/>
            <a:ext cx="7621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09880" y="2743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Makes Per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733920" y="41148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ing What You 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sk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ng Your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the numbers be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each number as you se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10" descr="lil%2520numb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886200"/>
            <a:ext cx="1324080" cy="10857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1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ask</a:t>
            </a:r>
            <a:br>
              <a:rPr sz="16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actice Makes Per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each of the number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the game for each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267080"/>
            <a:ext cx="857160" cy="1028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3048120" y="541008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6477120" y="548640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238880" y="43434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2819520" y="411480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4343400" y="419112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WordArt 12"/>
          <p:cNvSpPr txBox="1"/>
          <p:nvPr/>
        </p:nvSpPr>
        <p:spPr>
          <a:xfrm>
            <a:off x="5867280" y="403848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4724280" y="57150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457200" y="457200"/>
            <a:ext cx="1600200" cy="3385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aluation and Conclusion</a:t>
            </a:r>
            <a:br>
              <a:rPr sz="1400"/>
            </a:br>
            <a:br>
              <a:rPr sz="1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ing What You Kn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what you have learned, you will now make a number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of your book should have a number from one to 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should have a picture that illustrates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share your books with the class and with your family on family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jumping chick"/>
          <p:cNvPicPr/>
          <p:nvPr/>
        </p:nvPicPr>
        <p:blipFill>
          <a:blip r:embed="rId1"/>
          <a:stretch/>
        </p:blipFill>
        <p:spPr>
          <a:xfrm>
            <a:off x="533520" y="41911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80880" y="457200"/>
            <a:ext cx="1600200" cy="3385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11" descr="VGKILAJHUIAJDGX"/>
          <p:cNvPicPr/>
          <p:nvPr/>
        </p:nvPicPr>
        <p:blipFill>
          <a:blip r:embed="rId3"/>
          <a:stretch/>
        </p:blipFill>
        <p:spPr>
          <a:xfrm>
            <a:off x="4724280" y="4572000"/>
            <a:ext cx="2438640" cy="1406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28600" y="38088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9" descr="two%2520haw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343400"/>
            <a:ext cx="2152440" cy="1386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12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Picture 11" descr="Chickadee%2520Thre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275000"/>
            <a:ext cx="1514520" cy="1478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Picture 11" descr="Four%2520eggs%25205-30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343400"/>
            <a:ext cx="198108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Picture 11" descr="White%2520Pelican%2520Fiv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648320"/>
            <a:ext cx="1876320" cy="1241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Picture 13" descr="barnacles_group_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4389480"/>
            <a:ext cx="2466720" cy="1449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Picture 13" descr="birds-sev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4319640"/>
            <a:ext cx="2743200" cy="1687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Picture 11" descr="eight-eggs-close-box2-0404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343400"/>
            <a:ext cx="1885680" cy="1521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6:00:12Z</dcterms:created>
  <dc:creator>Perri Applegate</dc:creator>
  <dc:description/>
  <dc:language>en-US</dc:language>
  <cp:lastModifiedBy>Lorenz</cp:lastModifiedBy>
  <dcterms:modified xsi:type="dcterms:W3CDTF">2010-01-05T11:45:52Z</dcterms:modified>
  <cp:revision>9</cp:revision>
  <dc:subject/>
  <dc:title>Fun with Numbers A Kindergarten Mathematics  WebQuest</dc:title>
</cp:coreProperties>
</file>